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AD65-8379-406B-A22C-185FF89A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FE36-EB36-4623-810E-30D46B2C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B324-13C8-482B-B8C5-695ED60B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968B-CE73-40E6-B3D8-9B5BE4AF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1095-649A-408C-8AF6-4633A4BB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11CE-00E1-410E-A1EC-B6617689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0971-FBBA-4369-9CF3-0F9B4961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E12A-1370-4497-B340-9C50FEBC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927F-B6C0-4A22-A891-DBA884E0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7073-467F-4A63-82AC-A7ABFE56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DD7D-0046-4030-B2FA-43C085E4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77EE-E6F9-45C5-A622-7B4D6D69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13D2-428C-47EE-9084-4093989A9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17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52480" y="0"/>
            <a:ext cx="1371600" cy="100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666520" y="2286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entury Gothic"/>
              </a:rPr>
              <a:t>@ ISMB &amp; BOSC 2008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82224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http://gmod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1119240"/>
          <a:ext cx="9144000" cy="5745240"/>
        </p:xfrm>
        <a:graphic>
          <a:graphicData uri="http://schemas.openxmlformats.org/drawingml/2006/table">
            <a:tbl>
              <a:tblPr/>
              <a:tblGrid>
                <a:gridCol w="3809880"/>
                <a:gridCol w="457200"/>
                <a:gridCol w="4419720"/>
                <a:gridCol w="457200"/>
              </a:tblGrid>
              <a:tr h="284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mine - Open source Da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ehouse and Query Interfac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hard Smith, Fri 11:10-11: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gatis: A Web-based Bioinformatic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peline Management and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borative Development  Syste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hua Orvis, Sat 9:30-9: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llo: a Sequence Annotation Edi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 Lee, Sat 11:50-12: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RACE - BioMart Developments and Fu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ed Haider, Sat 1:50-2: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493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e0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BRACE - Enabling Data Integ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ed Haider, Sun 2:15-2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mine - Open source Data Warehouse and Query Inte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chard Smith, Mon 12:15-12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hway Tools Software: Regulatory Networks and Recent Development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ter Karp, Mon 3:15-3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laxy Workflows: Enabling Complex Compu-tational Analysis For Experimental Biologi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mes Taylor, Tue 3:15-3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GALAXY To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on Nekrutenko, Tue 3:45-4: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6a5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f7a6c"/>
                    </a:solidFill>
                  </a:tcPr>
                </a:tc>
              </a:tr>
              <a:tr h="289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Genome Grid for Finding new Bug Ge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omplete System for Community Genome  Anno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laxy workflows for reproducible analyses of next-generation sequencing data, Anton Nekruten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genomic Analysis with Galaxy: Windshield Genomics and Beyo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BRACE – Enabling Data Integ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OD: Managing genomic data from emerging model organis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e99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6c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dimensional annotation of the Escherichia coli K-12 gen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wards Data Analysis of Genome Wide Influenza RNAi Sc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informatics to support the sequencing of Brassica rapa chromosomes A2 and A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 co-variation among rates of differ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s of mut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s for database interoperability: a re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the CASIMIR consort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8c1a"/>
                    </a:solidFill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 rot="5400000">
            <a:off x="2583000" y="2369520"/>
            <a:ext cx="2833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SC Ta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7480080" y="5244840"/>
            <a:ext cx="287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ers using GM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2627640" y="5174640"/>
            <a:ext cx="284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ers about GM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696080" y="54000"/>
            <a:ext cx="1371600" cy="981000"/>
          </a:xfrm>
          <a:prstGeom prst="rect">
            <a:avLst/>
          </a:prstGeom>
          <a:ln w="8892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 rot="5400000">
            <a:off x="7657920" y="22478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MB Ta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7:30:39Z</dcterms:created>
  <dc:creator>GMOD / NESCent</dc:creator>
  <dc:description/>
  <dc:language>en-US</dc:language>
  <cp:lastModifiedBy>GMOD / NESCent</cp:lastModifiedBy>
  <cp:lastPrinted>2008-07-17T03:07:36Z</cp:lastPrinted>
  <dcterms:modified xsi:type="dcterms:W3CDTF">2008-07-17T03:07:39Z</dcterms:modified>
  <cp:revision>31</cp:revision>
  <dc:subject/>
  <dc:title>PowerPoint Presentation</dc:title>
</cp:coreProperties>
</file>